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6D4-5DCB-4F13-8C43-708A42A5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352-C8BA-48E4-8130-6EDA7D6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F6D-3B9E-4472-8564-ED54D314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130-E9CF-4B2C-A88E-EBE43999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0D61-89C1-4D83-99DC-6D9E0C73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C994-EAD1-4752-8A21-5F45008E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F3F-45E0-4E94-917E-17B3BC6D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9C24-3F2C-4DA1-8772-78114F8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0F73-0E1E-4068-922F-D168BC32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2C99-6A09-48DA-9BC4-543A635B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F5D0-128F-46CA-97CC-E042F90A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D02-7C23-4182-A900-5D7D9E37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83A5-8EBA-40DB-B6BC-88435A9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6D94-0698-47EA-A5AA-409EA68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DE90-1A89-495D-9071-4835EEA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3CCA-F776-429D-BA15-53707E44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EAA-43C8-409F-B199-B4ADC4FD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F8A-600F-4901-8AB0-A774EED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540-2577-47A9-B0A1-5F80EF14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51A-E4DB-4E10-AE70-BE92D492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358-B2A1-4BBA-88B9-44322DF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5BF-A756-4A21-A035-53D57CB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55C-DED2-4929-95A4-75489409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E0A-48B0-4183-B3C4-9859DF30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0854-A1EC-4649-B17A-178B4AB98C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CE9-2507-40FE-9919-C0583165B4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pct"/><Relationship Id="rId5" Type="http://schemas.openxmlformats.org/officeDocument/2006/relationships/package" Target="../embeddings/oleObject2.docx"/><Relationship Id="rId6" Type="http://schemas.openxmlformats.org/officeDocument/2006/relationships/image" Target="../media/image4.pct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80060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05320" y="8380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7621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58280" y="503712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5840" y="48769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5320" y="45720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562720"/>
            <a:ext cx="256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567160"/>
            <a:ext cx="5410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ssenti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Words/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ヒラギノ角ゴ Pro W3"/>
              </a:rPr>
              <a:t>_x0010_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class l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Knows, understands, able to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8076960" cy="581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29000" y="38088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0760" y="5562720"/>
            <a:ext cx="23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657600"/>
            <a:ext cx="56390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extu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434340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915400" cy="5924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9720" y="5851440"/>
            <a:ext cx="21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w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560680"/>
            <a:ext cx="586728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610480" cy="533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53352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836720"/>
            <a:ext cx="5105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uring          Understa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Readiness, Interests,    Learning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5815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609480"/>
            <a:ext cx="23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3341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24200" y="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124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962520"/>
            <a:ext cx="6858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52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491200">
              <a:off x="4830480" y="1950480"/>
              <a:ext cx="2409840" cy="1321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Stud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a4"/>
                  </a:solidFill>
                  <a:latin typeface="Arial Narrow"/>
                </a:rPr>
                <a:t>Engagem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55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Ho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a4"/>
                  </a:solidFill>
                  <a:latin typeface="Arial"/>
                </a:rPr>
                <a:t>Wha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838080"/>
            <a:ext cx="7620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The real voyage of discovery lies not in seeking new landscapes, but in having new ey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MS Pゴシック"/>
              </a:rPr>
              <a:t>-Marcel Proust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666880"/>
            <a:ext cx="110664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5560" y="2666880"/>
            <a:ext cx="1219320" cy="1054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2666880"/>
            <a:ext cx="12193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74320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1828800" cy="15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762120" y="1523880"/>
          <a:ext cx="9754920" cy="45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23880"/>
                    <a:ext cx="975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28600" y="4495680"/>
          <a:ext cx="8612280" cy="590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495680"/>
                    <a:ext cx="8612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884320" y="1247760"/>
            <a:ext cx="33782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819520"/>
            <a:ext cx="1371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971800"/>
            <a:ext cx="1295280" cy="11206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2895480"/>
            <a:ext cx="114300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2743200"/>
            <a:ext cx="1214640" cy="12142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ve Universal Cultural Shapes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143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What is teaching?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squar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41148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  plus sign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057400"/>
            <a:ext cx="4190760" cy="419112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4191120"/>
              <a:gd name="textAreaBottom" fmla="*/ 419148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e36e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circ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How is </a:t>
            </a: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teaching</a:t>
            </a:r>
            <a:r>
              <a:rPr b="0" lang="en-US" sz="5400" spc="-1" strike="noStrike">
                <a:solidFill>
                  <a:srgbClr val="b7e7ff"/>
                </a:solidFill>
                <a:latin typeface="Comic Sans MS"/>
              </a:rPr>
              <a:t> like a spiral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4419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Comic Sans MS"/>
              </a:rPr>
              <a:t>How is teaching like a triangle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0292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57:03Z</dcterms:created>
  <dc:creator>Toni Theisen</dc:creator>
  <dc:description/>
  <dc:language>en-US</dc:language>
  <cp:lastModifiedBy>Toni Theisen</cp:lastModifiedBy>
  <dcterms:modified xsi:type="dcterms:W3CDTF">2006-10-15T21:01:10Z</dcterms:modified>
  <cp:revision>77</cp:revision>
  <dc:subject/>
  <dc:title>Essential Question:</dc:title>
</cp:coreProperties>
</file>